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A69-BAA6-4C77-9EBE-9A9E0EE4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8E9-B903-4A41-9B8D-CF05910E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A7D-0266-4022-893F-BB0ED306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0B9-51E3-44DD-9476-60784DEE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D43E-E990-4F39-B668-214AA419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909A-C5AC-40AB-837D-54D75994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1EC8-361D-4F1B-964B-393423DA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4A01-53F3-43F4-98CC-62910B1F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8898-AFE8-46EE-B9F5-FFEAC511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EE6A-1A13-44E8-B1A3-5A8AA6D7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788F-5054-40D8-B128-13FE4905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C324-CC4E-476A-B44E-9D8D9F39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4FAE-D449-4420-8EF6-357DFB86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4EDC-500C-487D-9999-D2756064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E9E5-0059-40C9-B8B8-1ECA0E28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FCDD-8D30-4E79-894B-FB260CD3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CD27-8A0F-4836-ADD1-9BCA5D8B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4FF-F38C-4A9A-B084-515E407B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E6C-133E-4AE6-9C0B-FED5080C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B1C-3BDD-402A-AC9E-B42DCAA5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F17-A67C-4A74-ACF9-CF7EEE70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582-A81F-4498-9893-BB3CB768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DE5-E59E-40D9-8225-4ED2326F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35C7-9CBD-46E3-B29C-918E6DBD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2ACA-8C33-4F70-B7F1-1BCF22DCE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DB7E-5B09-42A4-A03E-9B389DBDE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Angles-Bird’s Eye 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7" descr="http://t1.gstatic.com/images?q=tbn:ANd9GcTD0IU8gRTZZ2AihXtkUYa4QlusdQ187-SRNwHDjF4ioosXt7_M"/>
          <p:cNvPicPr/>
          <p:nvPr/>
        </p:nvPicPr>
        <p:blipFill>
          <a:blip r:embed="rId1"/>
          <a:stretch/>
        </p:blipFill>
        <p:spPr>
          <a:xfrm>
            <a:off x="1752480" y="3048120"/>
            <a:ext cx="4114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Angles-High Ang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139680" y="-744480"/>
            <a:ext cx="2028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139680" y="-744480"/>
            <a:ext cx="2028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13968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13968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13968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17" descr="http://www.depauw.edu/acad/film/images/psycho%20high%20angle.jpeg"/>
          <p:cNvPicPr/>
          <p:nvPr/>
        </p:nvPicPr>
        <p:blipFill>
          <a:blip r:embed="rId1"/>
          <a:stretch/>
        </p:blipFill>
        <p:spPr>
          <a:xfrm>
            <a:off x="45720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Angles-Low Ang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13968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10" descr="http://cache2.artprintimages.com/p/LRG/27/2749/991TD00Z/art-print/low-angle-view-of-a-group-of-young-men-holding-skateboards.jpg"/>
          <p:cNvPicPr/>
          <p:nvPr/>
        </p:nvPicPr>
        <p:blipFill>
          <a:blip r:embed="rId1"/>
          <a:stretch/>
        </p:blipFill>
        <p:spPr>
          <a:xfrm>
            <a:off x="1371600" y="31240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Angles-Eye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7" descr="http://artmused.files.wordpress.com/2010/02/photo318.jpg"/>
          <p:cNvPicPr/>
          <p:nvPr/>
        </p:nvPicPr>
        <p:blipFill>
          <a:blip r:embed="rId1"/>
          <a:stretch/>
        </p:blipFill>
        <p:spPr>
          <a:xfrm>
            <a:off x="1371600" y="2162160"/>
            <a:ext cx="35146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Angles-Canted/Dutch/Obliq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7" descr="https://lh4.googleusercontent.com/-ItnL9ok0lOE/TWrdW9Mm4-I/AAAAAAAABWA/hb4_gOL7ElI/s320/Screen+shot+2011-02-27+at+23.13.04.png"/>
          <p:cNvPicPr/>
          <p:nvPr/>
        </p:nvPicPr>
        <p:blipFill>
          <a:blip r:embed="rId1"/>
          <a:stretch/>
        </p:blipFill>
        <p:spPr>
          <a:xfrm>
            <a:off x="4724280" y="1752480"/>
            <a:ext cx="4419720" cy="2438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http://farm4.static.flickr.com/3424/3861335831_bc0af92ae6.jpg"/>
          <p:cNvPicPr/>
          <p:nvPr/>
        </p:nvPicPr>
        <p:blipFill>
          <a:blip r:embed="rId2"/>
          <a:stretch/>
        </p:blipFill>
        <p:spPr>
          <a:xfrm>
            <a:off x="0" y="3286080"/>
            <a:ext cx="4724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oujou</dc:creator>
  <dc:description/>
  <dc:language>en-US</dc:language>
  <cp:lastModifiedBy>Jou Jou</cp:lastModifiedBy>
  <dcterms:modified xsi:type="dcterms:W3CDTF">2011-11-14T02:49:31Z</dcterms:modified>
  <cp:revision>93</cp:revision>
  <dc:subject/>
  <dc:title>Legacy Life Skills</dc:title>
</cp:coreProperties>
</file>